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6C7-13C0-4BA7-8185-A8F9656B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7F4-FCFA-4975-9F2D-4E2E0C50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6A01-3DD7-4212-8DF0-EBC716CC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669F-721E-4DDC-A597-DCEEF2D57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BBBF-8CC6-40E7-AFD0-E54EECEA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AEF8-3EC2-4748-97BD-C606C8A0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E6C1-539D-4560-AD4F-CAD0C484B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F25-EEFB-41C0-B6E3-12C1CFC35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891-963E-462D-ABB6-4F4E3A39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D60-A727-4B6B-A6E0-49C49EC2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0F31-C669-4D89-9750-4890EAE6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AF18-FC79-429F-A440-D92FE79C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79A-DADC-4A94-88DF-069E607E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2D5-A7FF-4C1E-B6DD-68C84287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7730-5E19-4516-A3B3-16714B59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728E-FD82-43D3-9D7A-18D13EB9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99A-8FAF-4FB1-88A5-FF243D53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FD0-EEEA-4F77-9755-D3D208C3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9D7-B467-4B1E-87C5-ADCAAC98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554-C1C9-43E4-9409-B81A90F72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55A3-636E-411E-B00E-9744E491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17DF-5ADE-491E-B959-14D79781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D53-3865-4A88-8E00-5CAAC6F86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C3F-678A-4854-998A-FBF4D34D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679-51C2-45DD-9E84-CBD0C8A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C99-CAD5-4AE9-8BDE-8A0F6917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CB3-BC4F-4E72-93A0-E62D0044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EF6-837C-496E-8B65-630CB4C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937-A538-4DA5-9777-E5B2CAB8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670-474B-4F7B-85E9-837965A1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D53-B9FB-41A2-9062-D8C8267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98A-86AF-4D72-98A1-2BA1EBB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3C5-91BB-4C52-B28D-6ACBA54C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45C-4022-4EE6-8293-DABB0FB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925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50C-0DFC-4275-BD8C-1F48BB2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422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2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F8E-FBA6-49E7-AB67-D583A777504E}" type="slidenum">
              <a:rPr b="0" lang="en-US" sz="1400" spc="-1" strike="noStrike">
                <a:solidFill>
                  <a:srgbClr val="4422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fessional Learning Communities at Work </a:t>
            </a:r>
            <a:br>
              <a:rPr sz="4400"/>
            </a:br>
            <a:r>
              <a:rPr b="0" lang="en-US" sz="4000" spc="-1" strike="noStrike">
                <a:solidFill>
                  <a:srgbClr val="442200"/>
                </a:solidFill>
                <a:latin typeface="Times New Roman"/>
              </a:rPr>
              <a:t>Best Practices for Enhancing Student Achievement</a:t>
            </a:r>
            <a:endParaRPr b="0" lang="en-US" sz="40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By Richard DuFour and Robert Eaker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Sustaining School Improvem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ion embedded into daily lif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Purposeful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Structured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Facilitated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ducators must be trained to be effective collaborato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Individually and collectively work as true professional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Embedding Change in School Culture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rotecting share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ngaging in reflective dialogu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elebrating shared values &amp; progres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urricular Focu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ive adoption proces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earch bas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ffective unit plan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Appropriate assessment mode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mmitment to continuous improvem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the Principal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Lead through shared vision an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Model vision and val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hared decision mak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 collaborative structur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 on learning rather than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Be fixated on result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827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the Parent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arental Involvem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ignificant to success of student achieve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Greater involvement </a:t>
            </a:r>
            <a:r>
              <a:rPr b="1" lang="en-US" sz="2800" spc="-1" strike="noStrike">
                <a:solidFill>
                  <a:srgbClr val="4422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 greater achieve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Translates into positive attitudes and behavio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ignificant at any age of student development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ackground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ole of Parent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Parents as Partne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Communication between parent, school, student is dynamic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Advocates for change within community and schoo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Parenting skills are promoted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Parents become valuable voluntee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Share in decision making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Teaching in a Professional Learning Community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phasis on learning rather than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phasize active student engagement with significant conten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 on student performance and produ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llaborate with colleagu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eachers are students of teaching and consumers of research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unction as leader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Staff Developm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earch bas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es on generic and discipline specific teaching skill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xpands repertoire to meet student need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Attentive to the tenets of good teach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oaching and supporting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Results in reflection and dialogu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Sustainabl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valuated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"/>
          <p:cNvPicPr/>
          <p:nvPr/>
        </p:nvPicPr>
        <p:blipFill>
          <a:blip r:embed="rId1"/>
          <a:stretch/>
        </p:blipFill>
        <p:spPr>
          <a:xfrm>
            <a:off x="838080" y="0"/>
            <a:ext cx="75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cused on school, supported by district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mbedded in daily work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oster renewal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Individua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Organizationa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The bottom line is that there is just no way to create good schools without good teachers.”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422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442200"/>
                </a:solidFill>
                <a:latin typeface="Times New Roman"/>
              </a:rPr>
              <a:t>National Commission on Teaching and America’s Future, 1996</a:t>
            </a:r>
            <a:endParaRPr b="0" lang="en-US" sz="1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About the Author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ichard DuFour, Ed.D.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Superintendent of Adlai Stevenson High School District 125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Distinguished alumni award Illinois State University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obert Eaker, Ed.D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Dean of College of Education at Middle Tennessee State University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2200"/>
                </a:solidFill>
                <a:latin typeface="Times New Roman"/>
              </a:rPr>
              <a:t>Consultant on school improvement</a:t>
            </a:r>
            <a:endParaRPr b="0" lang="en-US" sz="24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Co-authored </a:t>
            </a:r>
            <a:r>
              <a:rPr b="0" lang="en-US" sz="2800" spc="-1" strike="noStrike" u="sng">
                <a:solidFill>
                  <a:srgbClr val="442200"/>
                </a:solidFill>
                <a:uFillTx/>
                <a:latin typeface="Times New Roman"/>
              </a:rPr>
              <a:t>Creating the New American School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6248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art design by Charles Neumeyer &amp; Grannan Graphic Design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2200"/>
                </a:solidFill>
                <a:latin typeface="Times New Roman"/>
              </a:rPr>
              <a:t>Where do we begin?</a:t>
            </a:r>
            <a:endParaRPr b="0" lang="en-US" sz="60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mplexity of the Change Proces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Recognizing how difficult change really is!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y do we exist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y are we doing what we’re doing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at is it exactly we expect children to learn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How do we… 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espond when children do not learn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ulfill our collective responsibility to ensure that learning takes place for all students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Vision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at do we hope to become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Motivates and energize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s proactive orienta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Gives dire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stablishes standards of excellenc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Creates clear agenda for act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How must we behave in order to make shared vision a reality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Value Statement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ew in number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Linked to the vision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ocused on behavior not belief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Focused on self rather than other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Which steps will we take first and when?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Visions may inspire, but goals foster ongoing accountability.” </a:t>
            </a:r>
            <a:r>
              <a:rPr b="0" lang="en-US" sz="2000" spc="-1" strike="noStrike">
                <a:solidFill>
                  <a:srgbClr val="442200"/>
                </a:solidFill>
                <a:latin typeface="Times New Roman"/>
              </a:rPr>
              <a:t>(page 100)</a:t>
            </a:r>
            <a:endParaRPr b="0" lang="en-US" sz="20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Effective goals specify…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What is to be accomplished?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Actions to achieve goals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Responsible party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Timeline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2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2200"/>
                </a:solidFill>
                <a:latin typeface="Times New Roman"/>
              </a:rPr>
              <a:t>Evaluation criteria</a:t>
            </a:r>
            <a:endParaRPr b="0" lang="en-US" sz="28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200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4422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Too much complacency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ailing to create a strong leadership team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Underestimate the power of the vision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Failing to create short term wins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2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200"/>
                </a:solidFill>
                <a:latin typeface="Times New Roman"/>
              </a:rPr>
              <a:t>Neglecting to anchor change in culture</a:t>
            </a:r>
            <a:endParaRPr b="0" lang="en-US" sz="3200" spc="-1" strike="noStrike">
              <a:solidFill>
                <a:srgbClr val="4422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2:52:49Z</dcterms:created>
  <dc:creator>calexand</dc:creator>
  <dc:description/>
  <dc:language>en-US</dc:language>
  <cp:lastModifiedBy>AEURY</cp:lastModifiedBy>
  <dcterms:modified xsi:type="dcterms:W3CDTF">2011-10-31T15:03:05Z</dcterms:modified>
  <cp:revision>27</cp:revision>
  <dc:subject/>
  <dc:title>Professional Learning Communities at Work: Best Practices for Enhancing Student Achievement</dc:title>
</cp:coreProperties>
</file>